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270A-386D-46AB-BEAB-20382023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8AA6-7D37-4820-88A0-171EF614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80A2-302D-4078-8341-AD2154C3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67D-126B-411A-B1FD-BB7D1FC8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955E7-E154-4AAB-A37D-BA82E304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64926-17D3-441E-9450-9724B705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83DBE-4E41-4C60-9FB4-582EA382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09C38-8A8C-4BF3-BF23-2F4EFA8C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B8473-3A63-45F6-9048-81A0880E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8AE0B-44EA-4819-A18C-A9C9EB3F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49BDB-B34C-4395-B0BA-9818D8BD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9B02-55DB-4818-AAD8-124FE574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406E3-1002-4327-9337-541191D9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75BCB-AE4F-4325-9556-47331AD1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195B6-C6F0-4BC1-A83E-38BD578C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2866C-EA81-4178-9AB8-CF9773E4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E7326-C536-4537-A00C-2E2C9C2C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A6C-C2A1-4D06-B5C1-E4241B0A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8DD-989E-4340-8A1E-DA24D397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17F-F836-4CC4-A4AF-B2F93A8A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BB9-A673-44F4-BD32-A4B34AD3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E5F8-54B0-4C3C-B2DF-72824357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B5A-7AFD-43D7-9DAE-DBAC07AD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F26-A82F-4751-8844-5EA446FF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DF30-B216-4E0C-A2C7-BAA8A4D9E9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40A9-06C0-4875-B46D-1AC74A5FEC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sc.discovery.com/convergence/planet-earth/game/game.html" TargetMode="External"/><Relationship Id="rId2" Type="http://schemas.openxmlformats.org/officeDocument/2006/relationships/hyperlink" Target="http://dsc.discovery.com/convergence/planet-earth/game/game.html" TargetMode="External"/><Relationship Id="rId3" Type="http://schemas.openxmlformats.org/officeDocument/2006/relationships/hyperlink" Target="http://dsc.discovery.com/convergence/planet-earth/game/game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sc.discovery.com/convergence/planet-earth/game/game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3e3ff"/>
                </a:solidFill>
                <a:latin typeface="Arial"/>
                <a:ea typeface="David Transparent"/>
              </a:rPr>
              <a:t>IRS Project Presentatio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e By Topaz T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search Ques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n playing Risk</a:t>
            </a:r>
            <a:r>
              <a:rPr b="0" lang="en-GB" sz="3200" spc="-1" strike="noStrike">
                <a:solidFill>
                  <a:srgbClr val="ffffff"/>
                </a:solidFill>
                <a:latin typeface="MS Reference Specialty"/>
                <a:ea typeface="MS Reference Specialty"/>
              </a:rPr>
              <a:t>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ke a person wiser in making decis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ing the Planet Earth game will help a person make better decisions at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ake Away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 hope that people will win board games like Risk™ and Mono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 hope that this will encourage people to play more educational games than “useless” games like y8 g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erimental Proced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p 1) - Go to </a:t>
            </a: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dsc.discovery.com/convergence/planet-earth/game/gam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p 2) - Play 1 time, tell me result (9916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p 3) - Practise Risk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p 4) - Play </a:t>
            </a: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dsc.discovery.com/convergence/planet-earth/game/game.htm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p 5) - Tell me the result (10958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p 6) - Invite me to pay Risk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p 7) - Play </a:t>
            </a: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dsc.discovery.com/convergence/planet-earth/game/game.htm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p 8) - Tell me result (11082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p 9) – Get the average(10652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will use Jiajun for my experi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tempt numb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et Earth game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1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95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8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468360" y="1628640"/>
            <a:ext cx="273528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alysis &amp; Interpret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iajun got better at the Planet Earth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iajun got better at Risk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tter one is at The Planet Earth game, the better he will be at Risk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dsc.discovery.com/convergence/planet-earth/game/game.html</a:t>
            </a:r>
            <a:r>
              <a:rPr b="0" lang="en-S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314880" y="3198960"/>
            <a:ext cx="2514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THANK YOU!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3:36:30Z</dcterms:created>
  <dc:creator>topaz tan</dc:creator>
  <dc:description/>
  <dc:language>en-US</dc:language>
  <cp:lastModifiedBy>topaz tan</cp:lastModifiedBy>
  <dcterms:modified xsi:type="dcterms:W3CDTF">2010-08-09T09:32:48Z</dcterms:modified>
  <cp:revision>3</cp:revision>
  <dc:subject/>
  <dc:title>IRS Project Presentation</dc:title>
</cp:coreProperties>
</file>